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A880-AD2C-480C-A6DA-057B2446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87C9-17F2-44F4-AB6B-D6544A64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9213-6DB4-4351-8C86-D8488B80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2F3D-8997-4BA4-8225-0E4623A2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2B9D-D8BC-4EC1-873D-3E72F762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B089-0192-4BA6-A94B-EAD0AD8A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ABE3-FC3B-4FBC-A790-BE942859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CC8F-24C0-4597-8EC4-49DC705F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5574-3D53-4887-9BDD-93602C81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4F55-D842-415E-866D-29D7CFB6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6E46-2BA1-427C-97ED-471061F1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AD8B-9371-4A97-AB15-84C02AEB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31BE-BB7F-4CF5-8F1F-80D7FF40B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631280" cy="6334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55640" y="260280"/>
            <a:ext cx="7416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560f4"/>
                    </a:gs>
                    <a:gs pos="100000">
                      <a:srgbClr val="8dc6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руг или враг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560f4"/>
                  </a:gs>
                  <a:gs pos="100000">
                    <a:srgbClr val="8dc6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03280" y="5734080"/>
            <a:ext cx="662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560f4"/>
                    </a:gs>
                    <a:gs pos="100000">
                      <a:srgbClr val="8dc6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ам этот табак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560f4"/>
                  </a:gs>
                  <a:gs pos="100000">
                    <a:srgbClr val="8dc6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76360" y="476280"/>
            <a:ext cx="5959440" cy="61912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Я надеюсь, что вы всегда будете такими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счастливыми и здоровыми, и никогда не подружитесь с сигарето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Презентацию выполни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учитель начальных класс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Любимкин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Татьяна Иванов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овышение культуры знаний учащихся по проблеме табакокурения.</a:t>
            </a:r>
            <a:br>
              <a:rPr sz="2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в доступной для возраста форме объяснить отрицательные изменения в детском организме, происходящие под воздействием вредных веществ табачного дыма; организовать самостоятельную работу учащихся по теме; развивать творческие способности; получить сведения для дальнейшей индивидуальной работы с учащимися и их родителя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84360" y="692280"/>
            <a:ext cx="4295880" cy="5229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971640" y="981000"/>
            <a:ext cx="7416720" cy="14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dc6f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Что такое сигарета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dc6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4360" y="2781360"/>
            <a:ext cx="79912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dc6f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Мы расскажем вам об этом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dc6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4724280"/>
            <a:ext cx="2087640" cy="1873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588000" y="4724280"/>
            <a:ext cx="2232000" cy="18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Зубы не курящего         Зубы курильщ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2924280" cy="3887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00720" y="2133720"/>
            <a:ext cx="432720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Monotype Corsiva"/>
              </a:rPr>
              <a:t>Желудок не курящего   Желудок курильщик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3745080" cy="3241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59280" y="2133720"/>
            <a:ext cx="372744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4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4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Лёгкие не курящего     Лёгкие курильщ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4103640" cy="3527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4716360" y="1628640"/>
            <a:ext cx="3770280" cy="36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4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Monotype Corsiva"/>
              </a:rPr>
              <a:t>Пословиц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Кто табачное зелье любит, тот сам себя и губит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Arial"/>
              </a:rPr>
              <a:t>«Курить – здоровью вредить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33"/>
                </a:solidFill>
                <a:latin typeface="Arial"/>
              </a:rPr>
              <a:t>«Если будете курить, значит, долго вам не жить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«От кого табаком несет, то себя не бережет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ff"/>
                </a:solidFill>
                <a:latin typeface="Arial"/>
              </a:rPr>
              <a:t>«Курильщик – сам себе могильщик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</a:rPr>
              <a:t>«Табак здоровье разрушает и ума не добавляет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99"/>
                </a:solidFill>
                <a:latin typeface="Arial"/>
              </a:rPr>
              <a:t>«Одному куренье всласть, а кругом всем хоть пропасть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«Табак – здоровью враг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cc"/>
                </a:solidFill>
                <a:latin typeface="Arial"/>
              </a:rPr>
              <a:t>«К сигарете не тянись, укоротит твою жизнь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Анк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1. Кто в твоей семье курит?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папа         - старший брат             - дедуш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мама        - старшая сестра         - бабуш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2. Тебе нравится запах сигаретного дыма?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да                   - н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3. Тебе уже предлагали закурить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Да                   - н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4. Если да, то кто?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____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5. Ты уже пробовал курить?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Да                    -  н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Продолжение анк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84358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ff"/>
                </a:solidFill>
                <a:uFillTx/>
                <a:latin typeface="Arial"/>
              </a:rPr>
              <a:t>6.   Если ты уже пробовал курить, тебе это понравилось?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да                     - н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ff"/>
                </a:solidFill>
                <a:uFillTx/>
                <a:latin typeface="Arial"/>
              </a:rPr>
              <a:t>7. Тебе нравится смотреть, как другие курят?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да                     -  н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ff"/>
                </a:solidFill>
                <a:uFillTx/>
                <a:latin typeface="Arial"/>
              </a:rPr>
              <a:t>8. Ты думаешь, что будешь курить, когда вырастешь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да                      - н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ff"/>
                </a:solidFill>
                <a:uFillTx/>
                <a:latin typeface="Arial"/>
              </a:rPr>
              <a:t>9. Ты думаешь, что курить – это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хорошо           - плох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ff"/>
                </a:solidFill>
                <a:uFillTx/>
                <a:latin typeface="Arial"/>
              </a:rPr>
              <a:t>10.Почему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хорошо, потому что_____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плохо, потому, что______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8:52:39Z</dcterms:created>
  <dc:creator>Настя</dc:creator>
  <dc:description/>
  <dc:language>en-US</dc:language>
  <cp:lastModifiedBy>Настя</cp:lastModifiedBy>
  <dcterms:modified xsi:type="dcterms:W3CDTF">2010-03-11T21:04:53Z</dcterms:modified>
  <cp:revision>6</cp:revision>
  <dc:subject/>
  <dc:title>Слайд 1</dc:title>
</cp:coreProperties>
</file>