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png" ContentType="image/pn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87D-F346-46F0-97B1-D96DF392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9176-AAFE-4ED4-B6C4-61732F8A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E4FF4-F33F-46E5-8AFB-DDAF8A02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30CAE-A9DD-45CC-87B1-A94F8498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9421F-C1CF-4FB9-BFC3-D64F5F95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2CB94-976E-443E-9640-742708AE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E69FE-0B48-4329-9DAD-4491B430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FB6A-FC86-4FC5-A4E9-CEF7B7C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D96E3-D374-4F20-97FF-9CEFEC3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57ED1-B1ED-4F8D-8EFB-C5981E85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6D8F7-3521-404C-A161-6C780BA7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30735-82F3-4863-BDF7-109533D9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5B94-D3F2-4EC5-BE3C-95FF8045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71775-A5FA-4EC7-A519-B0E5068D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DCF54-EE8B-4EC0-A927-614A6E9E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01967-0B9C-432D-93B9-78DEF53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F3E1F-351D-40C2-94DC-9EFE1310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1B750-89E1-44A5-84F1-713BEE84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4EC0-22F6-4649-92A9-5B2459B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22381-76D7-4AAF-8646-9F46443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3B2BD-344F-476C-A33A-A0F5FA14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3E427-1561-4311-8C40-12A3B2B4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590D3-4FD1-4B16-96B3-A0A010F2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4B83-4FF3-496D-8D06-DCB05E27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CA2A-5596-4989-B7B1-6A7B4015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19457-46A1-4665-8D30-90723D74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0903-A251-4F93-8C8E-48C51991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6E5442-37CA-4104-A1CB-F91B4393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EAA20-E802-490A-A5D0-85CB3965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6C6A3-9271-41EF-AA4A-80299A3F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BB639-957B-47A8-997D-F201B2BE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DF41D-8D03-4A1B-A091-12B5A1D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7E0CC-78C0-4C61-982E-A728361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2F91-E6CD-4912-8552-6977AAD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8F92-695E-4731-84B2-F590C5508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1414B-C67C-4CB4-9370-B674DA17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3327B-A50B-4332-9BCB-C8301123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618AC-6246-4E24-9A57-D92AAE2C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BAA8-8900-48BF-98EB-145FA945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42B9-36A8-42BA-BE54-DE59804B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42F5-292C-4EBA-A411-7030FA0D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3145-DE76-44AF-ACA9-CB0FA186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A13-279A-4FFE-B016-24199679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8581-BEF8-4609-B496-5B4F8E5A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2D5-B4CC-4D49-A321-6DE4B0B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3A3C-5E37-41D8-B1F8-838DB24C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6CBD-A256-4DC7-98B3-EFF0A8C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FC7-7705-46E9-8977-FA731621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52B2-0F5B-45BF-A8A3-DE016416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965-8E9A-49EA-A3AC-AE0BDAE8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DB2C-1A93-4A44-8177-E559FB6B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3E9D-9948-4C93-BE7B-5E84BDB0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0874C-3C9A-4048-A464-058B3AAF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5B74-85D3-401B-A2DF-A27E23BC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19A3-9FEA-4E45-9614-CF3DCE12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435B-D1FF-43AE-8515-B1A48BDB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85D7-8278-4C7B-850B-764ABDC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4C851-2EE4-4BDB-9BE1-3AD20885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77FBF-0A64-4521-B4E1-D26D53BE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FE68-150E-4187-BB72-E6744C40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97D1-9D87-4262-BE2F-62B82C44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4013-907C-497E-AFF2-B249CC88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D3485-B4D9-4A56-8092-F7CE9522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F113-AC7F-4FB2-BA8A-76D617FB2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9B990-A535-47CA-88FA-D4BF4D31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3D912-BAC3-40AE-A93C-0F4000B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2E5-3A41-4E84-949D-8E0E6131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3547C-AF2A-4EED-9A09-E8A9793D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BCD5-0146-43FA-AD02-4C7E8405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6E512-A073-4EEA-8EE8-9F06F0D7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FBA84-D2A3-481E-B2BE-2CB90AA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B3D92-9963-4464-90AC-27433E21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F70E-3C53-47DD-BE65-BD2307A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F1765-56EE-49E2-A5ED-59B52D0D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B713C-FEB7-4064-8A19-2446D1295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F8F44-767F-43AD-81DF-0F53A211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525F0-A905-4451-84A1-B652A0B64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2F67-228F-4E73-8E5B-25487822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5B9B1-D727-4CE1-9951-72D46A66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48425-5296-4432-876F-E93ED2CD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A22AE-1DC5-462B-8841-BC9120BB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EA53-3EE6-4072-95BE-73F3B875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BA80-44E1-4DDF-B6B4-76E0A764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7A801-5995-4CE0-8533-792B5E7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6F9AA-94A6-49DC-AB98-29F744B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2986-B28C-4CBB-9E30-32AF733F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27763-FC86-4DC1-B22B-E9628CCC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AB50C-1F33-4512-A5AC-95018ACD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D076-873A-4BD2-B2E9-26E70550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50215-73B5-4FDB-9B69-D0A3D45C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FA17C-9B33-4385-832B-6EE9AE55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DD77F-D68E-4E93-984A-0DDC019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56B7B-C080-4AD3-AF50-2ECD569C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6A7B-4A2E-465E-B256-AB02BB64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EDD7A-E5B4-4C56-BF81-2FE8AF8C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B76EE-277D-4E87-BE05-CC9E6311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B60B7-4139-40AE-AA5F-18BA5A02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9C064-3D68-4C9E-9F23-64E87B78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75F0E-3707-4C1C-9871-96B35AB7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01B-0A07-41B8-BCF5-89C8360C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18AAF-8F9C-45BB-A86E-4E4C4F7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66CB1-6D7B-4FC0-B5AE-B2031762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F3407-7D52-4ECC-8A24-2A0AF68F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9818A-D441-4B44-9C3C-B7A4FECC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E28A6-1134-4CD7-9E46-8A13E1C9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2F400-08BD-41A8-AFD6-7B3C56CA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312F2-DF5E-4CED-9F78-D61180A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6AD4D-BC2F-467D-8B99-1555FD2A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A489A-2989-49D3-B8CD-C4BE2449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5EC45-0D94-45BB-BE39-B8FC76A1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D0F3-1563-487A-9C27-8AACE552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F222A7-6FBB-423D-90C2-A83F9CCC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E5F60-5C0D-4727-8510-862F2723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4ED8D-EE3A-4C17-8FC3-AFCE7081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4A4D6-2C84-4298-898F-85D1C221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B8A25-52BF-4F5F-846D-4B2EC42F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5CC6A-C366-4A17-88C1-9A3EA083C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E2F08-F04F-4211-BA44-0E13DD1A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0D38-0078-4F64-9466-2D5D4DE3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AC83A-1395-4B6A-8CA9-F9ABC679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F6A53-8FC7-40A5-B912-ADCD0B9D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84C0-5B73-4D9C-9987-F9DEBC82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CB313-C06C-410B-AA0A-D949B24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FC95E-D67D-4628-A478-60E6156F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C516D-DCCA-4C1D-A6D3-14C00A85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0E71B-A435-47F4-8C0D-94873923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1ABCA-D306-440D-86A2-1370BADF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96BFD-F67A-43CC-AB33-998E85D5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23D3A-B1B9-42A4-89C3-EC75C93D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CC0C9-9FE8-4026-BE12-19D32E3E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EC8FC-B9BE-49EA-AC01-712612DF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DCE0F-013F-4C4C-A28B-4CFE0836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F11B-5ED5-4919-A010-26CF7B961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3CF2-DE59-4E9D-BE18-2D45522FB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25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1B1-94E7-4C5D-ADF4-B90ACFFBC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A53-7ED4-41E0-A5F4-6966C07D833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B466-48B5-4902-B22E-01F8EA74992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92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D28A-A879-4775-978D-EF59B4AD66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3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AA1D-E81E-47AD-85DF-B9D09CA585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6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0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CAD3-E06A-4051-91F7-2B09803334E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34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3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sldNum" idx="21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7EFC-4C7F-4199-8EB4-5C0185E6F7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2B87-01E1-4D24-B56D-2AA7E6863B4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4D0-E5FD-4716-A266-E4C8DFFC3DE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6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1187280" cy="1428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 rot="21085200">
            <a:off x="395280" y="549000"/>
            <a:ext cx="3794040" cy="4895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211280" y="1125000"/>
            <a:ext cx="4351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990000"/>
                </a:solidFill>
                <a:uFillTx/>
                <a:latin typeface="Sylfaen"/>
              </a:rPr>
              <a:t>Я – Зеркало. Старое школьное Зеркало.</a:t>
            </a:r>
            <a:br>
              <a:rPr sz="28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Хранитель порядка, добра, чистоты…</a:t>
            </a: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О, сколько я глаз повидал здесь прекрасных!</a:t>
            </a: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О, сколько в них света, тепла и мечты!</a:t>
            </a:r>
            <a:br>
              <a:rPr sz="2200"/>
            </a:b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Детишки весёлые, звонкие речи,</a:t>
            </a: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Весёлые глазки и дружеский смех – </a:t>
            </a: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Я их полюбил, но есть в мире учитель,</a:t>
            </a:r>
            <a:br>
              <a:rPr sz="2200"/>
            </a:br>
            <a:r>
              <a:rPr b="0" i="1" lang="en-US" sz="2200" spc="-1" strike="noStrike">
                <a:solidFill>
                  <a:srgbClr val="990000"/>
                </a:solidFill>
                <a:latin typeface="Sylfaen"/>
              </a:rPr>
              <a:t>Который их любит безумнее всех!</a:t>
            </a:r>
            <a:br>
              <a:rPr sz="2200"/>
            </a:b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304920" cy="29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5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79280" y="152280"/>
            <a:ext cx="8964720" cy="20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Любимкина</a:t>
            </a:r>
            <a:r>
              <a:rPr b="1" lang="ru-RU" sz="48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Татьяна Ивановна</a:t>
            </a:r>
            <a:br>
              <a:rPr sz="4800"/>
            </a:b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                               МОУ «СОШ с. Березов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0920" y="2565360"/>
            <a:ext cx="4105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Образование высшее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Закончила Моск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овсаПедагогический стаж 22 лет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mic Sans MS"/>
              </a:rPr>
              <a:t>Категория высшая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433680" cy="45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Двадцать два года подряд, она идет в одну и ту же школу, в один и то же класс, к одним и тем же детям, таким доверчивым, любознательным, верящим в нее и ждущим от нее понимания, поддержки, любви, которых катастрофически не хватает многим из них. И изо дня в день, из года в год она пытается оправдать их надежды и подарить им веру в себя. И за все это время,  почему-то проблем и трудностей у нее не стало меньше, опыт работы с детьми не сделал ее ассом, она до сих пор ищет ответы на многие вопросы и не может их найти. Но одно она знает  точно, она любит свою работу, она любит своих детей, а любовь дает человеку крылья, а значит возможность высокого полета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5796000" y="189000"/>
            <a:ext cx="18003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физически и психически здоровой, социально активной, гармонически развитой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ние любви к родной школе, отчему краю, формирование гражданского само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гуманистического отношения к окружающему миру, приобщение к общечеловеческим ценно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витие творческих способностей, формирование целостной и научно-обоснованной картины мира, развитие познавательных спосо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е стремления жить по эстетическим, нравственно-этическим и культурным критериям, воспитание чувственной сферы, чуткости, видения прекрасн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рмирования самосознания, становление активной жизненной позиции, формирование потребности к самопознанию и саморазвит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596360" y="5445000"/>
            <a:ext cx="133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3068640"/>
            <a:ext cx="3059280" cy="224460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3059280" y="0"/>
            <a:ext cx="2879640" cy="2027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3"/>
          <a:stretch/>
        </p:blipFill>
        <p:spPr>
          <a:xfrm>
            <a:off x="6335640" y="2924280"/>
            <a:ext cx="2808360" cy="22334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2952720" cy="380988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2484360" y="4005360"/>
            <a:ext cx="1008000" cy="576000"/>
          </a:xfrm>
          <a:prstGeom prst="leftArrow">
            <a:avLst>
              <a:gd name="adj1" fmla="val 50000"/>
              <a:gd name="adj2" fmla="val 4375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796000" y="4005360"/>
            <a:ext cx="863640" cy="485640"/>
          </a:xfrm>
          <a:prstGeom prst="rightArrow">
            <a:avLst>
              <a:gd name="adj1" fmla="val 50000"/>
              <a:gd name="adj2" fmla="val 4445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2060640"/>
            <a:ext cx="647640" cy="649080"/>
          </a:xfrm>
          <a:prstGeom prst="upArrow">
            <a:avLst>
              <a:gd name="adj1" fmla="val 50000"/>
              <a:gd name="adj2" fmla="val 2505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84360" y="3789360"/>
            <a:ext cx="18000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Здоровь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556000" y="260280"/>
            <a:ext cx="4248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Общечеловеческие ценност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588000" y="3789360"/>
            <a:ext cx="2305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00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Твор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9900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79640" y="2781360"/>
            <a:ext cx="54482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Times New Roman"/>
              </a:rPr>
              <a:t>Приоритетные направл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7"/>
          <a:stretch/>
        </p:blipFill>
        <p:spPr>
          <a:xfrm>
            <a:off x="7236000" y="260280"/>
            <a:ext cx="17287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705800" cy="54946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 txBox="1"/>
          <p:nvPr/>
        </p:nvSpPr>
        <p:spPr>
          <a:xfrm>
            <a:off x="1042920" y="404640"/>
            <a:ext cx="720108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5970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76a03"/>
                    </a:gs>
                    <a:gs pos="100000">
                      <a:srgbClr val="feec94"/>
                    </a:gs>
                  </a:gsLst>
                  <a:path path="rect">
                    <a:fillToRect l="50000" t="50000" r="50000" b="50000"/>
                  </a:path>
                </a:gradFill>
                <a:latin typeface="Arial"/>
              </a:rPr>
              <a:t>А это - Наша дружная семейка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76a03"/>
                  </a:gs>
                  <a:gs pos="100000">
                    <a:srgbClr val="feec94"/>
                  </a:gs>
                </a:gsLst>
                <a:path path="rect">
                  <a:fillToRect l="50000" t="50000" r="50000" b="50000"/>
                </a:path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20:07:20Z</dcterms:created>
  <dc:creator>Настя</dc:creator>
  <dc:description/>
  <dc:language>en-US</dc:language>
  <cp:lastModifiedBy>Настя</cp:lastModifiedBy>
  <dcterms:modified xsi:type="dcterms:W3CDTF">2009-03-20T23:33:51Z</dcterms:modified>
  <cp:revision>5</cp:revision>
  <dc:subject/>
  <dc:title>Слайд 1</dc:title>
</cp:coreProperties>
</file>