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220-11C5-409F-8FDC-4829B521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E24D-C044-4346-B143-2FC7C08E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8AD0-73DA-4BDB-ACD4-F3DF9D5F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4DC-2750-4B8C-B551-674A3916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8120-0C3F-4572-9F01-D6C83EEF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39E8-E195-4A84-AF64-751AD7B0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8D0B-3F81-4247-95D7-26F0258B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CF76-6A63-4E70-A3DC-128E59FF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D148-2615-4DF4-ACA6-57F78640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5426-532D-455B-B905-F52E5B04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D8BB-E670-499B-AE7E-5B2FF309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9E5-788F-4290-837D-F15A5A17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2C65-5340-4026-B93C-1231E395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A619-F0AE-42EB-B8D3-26BD0F60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AFF9-6629-4859-AE3B-5BA2037E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EEBE-1F58-4278-937E-38071035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C625-083C-4D61-A250-4CF5C930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E83C-9683-49CE-84F3-6709BB5A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11008-0BF2-4B42-84F3-ACA8ED2B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C6874-0B38-48A4-BEAC-B39162FD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EF46-7E49-41DA-96E7-45F1B6F5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85459-CC76-4E5D-A9C6-7C6062ED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545-AAFF-4C3E-A81A-8E357BDD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700B8-B324-4B88-B454-C1BC0205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C5106-E18D-46F4-8C30-C5322977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E6D06-929D-42B1-8B76-AC6C4261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8937A-63A9-49AC-8215-81C37670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21D49-9151-4772-A111-173DF69C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811EB-F873-4C90-A123-929692C8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042AD-3528-4B70-A686-581293DF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52B-A7A4-476F-9774-993CE63A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6D5-71EB-4668-895C-34449DF1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DC1-72F4-4E58-9CE5-BD7C542C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9354-6943-4A52-B934-30A6DE58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F32-73D3-4A6E-A5EF-103DFBBD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3FE-4DF9-4C70-8775-1B656E93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E66A-B52C-4612-83BF-A98F389EAD4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15BB-5635-4700-9EA6-125E821026F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8B5B-3BA8-440F-BC73-2758D157B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077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03640" y="242100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624720" cy="647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Педагогический сове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916000" y="2349360"/>
            <a:ext cx="41036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Взаимодействие семьи и школы в интересах личности ребен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то вы ждете от педагогов вашего ребенка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79280" y="1628640"/>
          <a:ext cx="878544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878544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то вы ждете от родителей вашего клас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79280" y="1628640"/>
          <a:ext cx="8785440" cy="42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878544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846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Притча </a:t>
            </a:r>
            <a:br>
              <a:rPr sz="4000"/>
            </a:b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«Пророк и длинные ложки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70567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6327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Слепые, немые и лиде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5454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3840" y="434520"/>
            <a:ext cx="65545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Какие чувства и трудности испытывал каждый из участников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Как педагоги пришли к победе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Что помогло им выполнить задание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Что чувствовали наблюдатели, не участвующие в упражнении, относительно данного задания и его выполнения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7558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Выход позитивный есть у нас всегда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росто постараться надо иногда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нания, умения пригодятся здесь!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Узел наш распутан - вот и выход есть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99640" y="1196640"/>
            <a:ext cx="7481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b800"/>
                </a:solidFill>
                <a:latin typeface="Comic Sans MS"/>
              </a:rPr>
              <a:t>Учитывайте личные интересы родителей, их возможность посещения школы и родительских собрани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Ведите беседу с родителями в подходящей обстановке, не на ходу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Обращайтесь к родителям по имени и отчеству. Умейте расположить родителей к себе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omic Sans MS"/>
              </a:rPr>
              <a:t>Не вызывайте огонь на себя, станьте собеседником, умейте слышать и слушать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ff"/>
                </a:solidFill>
                <a:latin typeface="Comic Sans MS"/>
              </a:rPr>
              <a:t>Не оскорбляйте родительские чувства и помыслы; в каждом ребенке найдите положительные черты и качеств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3300"/>
                </a:solidFill>
                <a:latin typeface="Comic Sans MS"/>
              </a:rPr>
              <a:t>Хвалите ребенка и родителей при всех, о проблемах говорите индивидуально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mic Sans MS"/>
              </a:rPr>
              <a:t>Обращение к родителям посредством дневника или письменного сообщения должно быть уважительным, лаконичным и конкретным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85440" y="550800"/>
            <a:ext cx="6870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Памятка педагог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560" y="151920"/>
            <a:ext cx="85690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ешение педагогического совет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496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дминистрации и педагогическому коллективу школы в своей работе ориентироваться на “Правила педагогической этики работы с родителями”; в просветительской работе с семьей и консультировании руководствоваться “Памяткой педагогу”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лассным руководителям обратить внимание на необходимость разнообразия форм проведения родительских собраний, чаще использовать нетрадиционные форм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ктивизировать деятельность по привлечению родителей к совместной работе по различным направлениям (совместные праздники, приглашение на выставки работ учащихся, совместное оформление стенгазет и т.д.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зобновить работу родительского всеобуч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ведение общешкольных родительских собраний по параллелям (младшая школа, среднее звено, старшая школ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лассным руководителям на родительских собраниях распространить практические советы и идеи, оформленные памяткой родителям “Мы вместе”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ведение в конце учебного года анкетирования родителей учащихся “Удовлетворенность учебным процессом и внеклассной деятельность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Цветограмма педсо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56360" y="2636640"/>
            <a:ext cx="273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окая 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яя 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зкая 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79440" y="5254560"/>
            <a:ext cx="3672000" cy="576360"/>
          </a:xfrm>
          <a:prstGeom prst="rect">
            <a:avLst/>
          </a:prstGeom>
          <a:solidFill>
            <a:srgbClr val="ffb34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нте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79440" y="3527280"/>
            <a:ext cx="3672000" cy="576360"/>
          </a:xfrm>
          <a:prstGeom prst="rect">
            <a:avLst/>
          </a:prstGeom>
          <a:solidFill>
            <a:srgbClr val="ffb34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к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79440" y="4103640"/>
            <a:ext cx="3672000" cy="576360"/>
          </a:xfrm>
          <a:prstGeom prst="rect">
            <a:avLst/>
          </a:prstGeom>
          <a:solidFill>
            <a:srgbClr val="ffb34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овиз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79440" y="4678200"/>
            <a:ext cx="3672000" cy="576360"/>
          </a:xfrm>
          <a:prstGeom prst="rect">
            <a:avLst/>
          </a:prstGeom>
          <a:solidFill>
            <a:srgbClr val="ffb34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оле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56160" y="1438200"/>
            <a:ext cx="287280" cy="1657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42920" y="1773360"/>
            <a:ext cx="4103640" cy="1728720"/>
          </a:xfrm>
          <a:prstGeom prst="flowChartExtra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651640" y="2637000"/>
            <a:ext cx="576000" cy="57600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51640" y="3933720"/>
            <a:ext cx="576000" cy="5763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51640" y="5229360"/>
            <a:ext cx="576000" cy="576000"/>
          </a:xfrm>
          <a:prstGeom prst="rect">
            <a:avLst/>
          </a:pr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оспитанный в добре выбирает зло не от хорошей жизни. Но воспитанный в зле выбирает зло при любой жизни. Если дети, развиваясь, имеют перед собой образец уважительного отношения к миру, образец помощи и поддержки, они сами будут готовы нести добро не абстрактным людям, а человеку, который рядом с ни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1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оиск оптимальных форм совместной работы школы и семьи в интересах ребенк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4655880" cy="52164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mic Sans MS"/>
              </a:rPr>
              <a:t>Спасибо за работу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62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«Воспитание есть </a:t>
            </a:r>
            <a:br>
              <a:rPr sz="4000"/>
            </a:b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процесс социальный в самом широком смысле. Воспитывает все: люди, вещи, явления, но прежде всего и больше всего – люди. Из них на первом месте – родители и педагоги»</a:t>
            </a:r>
            <a:br>
              <a:rPr sz="4000"/>
            </a:b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                  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Макаренк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384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Главные 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0578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Единство процесса воспитания в школе и семье с целью всестороннего развития личности каждого ребен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Изучение воспитательных возможностей сем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Повышение педагогической культуры родите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Оказание воспитательной помощи семь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Совместная работа педагогического коллектива и родителей по преодолению трудност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Общая заинтересованность учителей и родителей в организации гуманной педагогической Среды вокруг каждого ребен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Умение координировать усилия семьи и школ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8496000" cy="630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Как можно меньше вызовов в школу родителей для моральных нотаций детям, </a:t>
            </a:r>
            <a:r>
              <a:rPr b="1" lang="en-US" sz="2700" spc="-1" strike="noStrike">
                <a:solidFill>
                  <a:srgbClr val="ff0000"/>
                </a:solidFill>
                <a:latin typeface="Comic Sans MS"/>
              </a:rPr>
              <a:t>для</a:t>
            </a: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устрашения сыновней отцовской “сильной рукой”, для предупреждения об опасностях, “если и дальше так будет продолжаться”, – и как можно больше такого духовного общения детей с родителями, которое приносит радость матерям и отцам. Все, что у ребенка в голове, душе, в тетради, дневнике, – все это мы должны рассматривать с точки зрения взаимоотношений детей и родителей, и совершенно недопустимо, чтобы ребенок приносил матери и отцу одни огорчения – это уродливое воспитание”.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                             В.А. Сухомлинский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4108680" cy="4681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1856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dff"/>
                </a:solidFill>
                <a:latin typeface="Comic Sans MS"/>
              </a:rPr>
              <a:t>Работа в группах «Ситуаци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06616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Схема анализа ситуаций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32000" y="1197000"/>
            <a:ext cx="7200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Дайте качественную оценку поведения учителя и родителя в данной ситуации. Проанализируйте ошибки, допущенные и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Предложите правильное решение данной ситуации с вашей точки зр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В какой степени учитываются интересы личности ребенка в данной ситуации и в вашем варианте ее решени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4920" y="152280"/>
            <a:ext cx="820908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Правила взаимодействия и способы установления 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контактов с семьей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Comic Sans MS"/>
              </a:rPr>
              <a:t>Действия и мероприятия, направленные на укрепление и повышение авторитета родителей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Comic Sans MS"/>
              </a:rPr>
              <a:t>Повышение уровня их педагогической культуры и активности в воспитании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Педагогический такт, недопустимость неосторожного вмешательства в жизнь семьи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mic Sans MS"/>
              </a:rPr>
              <a:t>Ориентация на успешное развитие личности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Какими качествами как личность, профессионал должен обладать учите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50920" y="1773360"/>
          <a:ext cx="8642160" cy="47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4216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4:09:41Z</dcterms:created>
  <dc:creator>Zver</dc:creator>
  <dc:description/>
  <dc:language>en-US</dc:language>
  <cp:lastModifiedBy>Zver</cp:lastModifiedBy>
  <dcterms:modified xsi:type="dcterms:W3CDTF">2011-04-13T18:47:49Z</dcterms:modified>
  <cp:revision>11</cp:revision>
  <dc:subject/>
  <dc:title>Педагогический совет</dc:title>
</cp:coreProperties>
</file>